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106200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2287440"/>
            <a:ext cx="8226360" cy="21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6840" y="4650120"/>
            <a:ext cx="8226360" cy="21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106200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228744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2440" y="228744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6840" y="465012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2440" y="465012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106200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228744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8200" y="228744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19560" y="228744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6840" y="465012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8200" y="465012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19560" y="4650120"/>
            <a:ext cx="2648520" cy="21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6840" y="106200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6840" y="2287440"/>
            <a:ext cx="8226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06200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6840" y="2287440"/>
            <a:ext cx="8226360" cy="452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06200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2287440"/>
            <a:ext cx="4014360" cy="452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2440" y="2287440"/>
            <a:ext cx="4014360" cy="452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106200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6840" y="106200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06200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6840" y="228744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2440" y="2287440"/>
            <a:ext cx="4014360" cy="452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6840" y="465012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106200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2287440"/>
            <a:ext cx="4014360" cy="452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2440" y="228744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2440" y="465012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106200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228744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2440" y="2287440"/>
            <a:ext cx="4014360" cy="21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650120"/>
            <a:ext cx="8226360" cy="21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06200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2287440"/>
            <a:ext cx="8226360" cy="452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3" descr=""/>
          <p:cNvPicPr/>
          <p:nvPr/>
        </p:nvPicPr>
        <p:blipFill>
          <a:blip r:embed="rId2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Text Box 1"/>
          <p:cNvSpPr/>
          <p:nvPr/>
        </p:nvSpPr>
        <p:spPr>
          <a:xfrm>
            <a:off x="684360" y="21178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ALLERGIC REACTIONS CAUSED BY </a:t>
            </a:r>
            <a:r>
              <a:rPr b="1" lang="sr-Latn-RS" sz="4000" spc="-1" strike="noStrike">
                <a:solidFill>
                  <a:srgbClr val="ff0000"/>
                </a:solidFill>
                <a:latin typeface="Arial"/>
              </a:rPr>
              <a:t>DRUG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Text Box 2"/>
          <p:cNvSpPr/>
          <p:nvPr/>
        </p:nvSpPr>
        <p:spPr>
          <a:xfrm>
            <a:off x="1066680" y="3581280"/>
            <a:ext cx="6705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Arial"/>
              </a:rPr>
              <a:t>MD PhD Prof Aleksandra Tomic Luc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1"/>
          <p:cNvSpPr/>
          <p:nvPr/>
        </p:nvSpPr>
        <p:spPr>
          <a:xfrm>
            <a:off x="457200" y="-9360"/>
            <a:ext cx="82296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Text Box 2"/>
          <p:cNvSpPr/>
          <p:nvPr/>
        </p:nvSpPr>
        <p:spPr>
          <a:xfrm>
            <a:off x="457200" y="1143000"/>
            <a:ext cx="822960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39840" algn="ctr">
              <a:spcBef>
                <a:spcPts val="799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IN VIVO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799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kin test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799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rly type-prix, intradermal, subcutaneous (+test is evidence of the existence of IgE or direct release of inflammatory mediator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799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te type - they are rarely us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799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799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se provocation tests - only in the case of a type I reaction, if the skin test is negativ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1"/>
          <p:cNvSpPr/>
          <p:nvPr/>
        </p:nvSpPr>
        <p:spPr>
          <a:xfrm>
            <a:off x="324000" y="1125360"/>
            <a:ext cx="8229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4000"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sr-Latn-CS" sz="3600" spc="-1" strike="noStrike">
                <a:solidFill>
                  <a:srgbClr val="c00000"/>
                </a:solidFill>
                <a:latin typeface="Arial"/>
              </a:rPr>
              <a:t>IN VITRO TES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Text Box 2"/>
          <p:cNvSpPr/>
          <p:nvPr/>
        </p:nvSpPr>
        <p:spPr>
          <a:xfrm>
            <a:off x="380880" y="1828800"/>
            <a:ext cx="830592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39840" algn="ctr">
              <a:spcBef>
                <a:spcPts val="700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Type I rea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700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IgE 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700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fic IgE At against major Ag determinants of drugs (RAST test). If RAST test + do not do in vivo tes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700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fic IgE At against minor Ag determinants of drugs (RAST test). Results unreli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1"/>
          <p:cNvSpPr/>
          <p:nvPr/>
        </p:nvSpPr>
        <p:spPr>
          <a:xfrm>
            <a:off x="457200" y="907920"/>
            <a:ext cx="82296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5000"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sr-Latn-CS" sz="3600" spc="-1" strike="noStrike">
                <a:solidFill>
                  <a:srgbClr val="c00000"/>
                </a:solidFill>
                <a:latin typeface="Arial"/>
              </a:rPr>
              <a:t>IN VITRO TES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Text Box 2"/>
          <p:cNvSpPr/>
          <p:nvPr/>
        </p:nvSpPr>
        <p:spPr>
          <a:xfrm>
            <a:off x="457200" y="162864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Type II reac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fic At class IgG and IgM (Coobs tes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ement fixation test (Tr↓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Type III reac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ation of I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 biopsy with determination of C3 and I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Type IV rea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ation of cytoki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 of lymphoblast transformation Ly (determination of sensitized Ly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1"/>
          <p:cNvSpPr/>
          <p:nvPr/>
        </p:nvSpPr>
        <p:spPr>
          <a:xfrm>
            <a:off x="838080" y="685800"/>
            <a:ext cx="6782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Text Box 2"/>
          <p:cNvSpPr/>
          <p:nvPr/>
        </p:nvSpPr>
        <p:spPr>
          <a:xfrm>
            <a:off x="755640" y="1125360"/>
            <a:ext cx="724536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PROVOCATION TES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 in hospital condit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e I - reactions only if necessary, if the skin test is nega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ype II and III reactions - are not performed due to permanent tissue dam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1"/>
          <p:cNvSpPr/>
          <p:nvPr/>
        </p:nvSpPr>
        <p:spPr>
          <a:xfrm>
            <a:off x="457200" y="11430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sr-Latn-CS" sz="4000" spc="-1" strike="noStrike">
                <a:solidFill>
                  <a:srgbClr val="c00000"/>
                </a:solidFill>
                <a:latin typeface="Arial"/>
              </a:rPr>
              <a:t>TREAT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Text Box 2"/>
          <p:cNvSpPr/>
          <p:nvPr/>
        </p:nvSpPr>
        <p:spPr>
          <a:xfrm>
            <a:off x="457200" y="2743200"/>
            <a:ext cx="822960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0440" indent="-4572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ontinuation of medi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0440" indent="-4572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ihistamines, GK and epinephrine - type I reac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60440" indent="-4572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K- reactions type II, III and IV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1"/>
          <p:cNvSpPr/>
          <p:nvPr/>
        </p:nvSpPr>
        <p:spPr>
          <a:xfrm>
            <a:off x="457200" y="10666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sr-Latn-CS" sz="3600" spc="-1" strike="noStrike">
                <a:solidFill>
                  <a:srgbClr val="c00000"/>
                </a:solidFill>
                <a:latin typeface="Arial"/>
              </a:rPr>
              <a:t>PREVENTIVE MEASUR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Text Box 2"/>
          <p:cNvSpPr/>
          <p:nvPr/>
        </p:nvSpPr>
        <p:spPr>
          <a:xfrm>
            <a:off x="380880" y="2438280"/>
            <a:ext cx="83059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8640" indent="-4572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oidance of the incriminated dru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8640" indent="-4572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of alternative medici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8640" indent="-4572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oidance of cross-sensitizing drug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8640" indent="-4572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ug desensitization (only if necessary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1"/>
          <p:cNvSpPr/>
          <p:nvPr/>
        </p:nvSpPr>
        <p:spPr>
          <a:xfrm>
            <a:off x="457200" y="1062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sr-Latn-CS" sz="3600" spc="-1" strike="noStrike">
                <a:solidFill>
                  <a:srgbClr val="ff0000"/>
                </a:solidFill>
                <a:latin typeface="Arial"/>
              </a:rPr>
              <a:t>ALLERGY TO PENICILLIN DRUG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Text Box 2"/>
          <p:cNvSpPr/>
          <p:nvPr/>
        </p:nvSpPr>
        <p:spPr>
          <a:xfrm>
            <a:off x="533520" y="2362320"/>
            <a:ext cx="815328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5960" indent="-3427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883800"/>
                <a:tab algn="l" pos="10333080"/>
                <a:tab algn="l" pos="1078236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The core of the molecule is a beta-lactam ring-hapten molecul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5960" indent="-3427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883800"/>
                <a:tab algn="l" pos="10333080"/>
                <a:tab algn="l" pos="1078236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Benzylpenicillin-crystalline Penicill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5960" indent="-3427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883800"/>
                <a:tab algn="l" pos="10333080"/>
                <a:tab algn="l" pos="1078236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Procainebenzylpenicillin-Jugocill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5960" indent="-3427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883800"/>
                <a:tab algn="l" pos="10333080"/>
                <a:tab algn="l" pos="1078236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Benzathine benzylpenicillin – Extencil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5960" indent="-3427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883800"/>
                <a:tab algn="l" pos="10333080"/>
                <a:tab algn="l" pos="1078236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Semi-synthetic penicillins - Amoxicillin, Ampicill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1"/>
          <p:cNvSpPr/>
          <p:nvPr/>
        </p:nvSpPr>
        <p:spPr>
          <a:xfrm>
            <a:off x="457200" y="1062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5000"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Arial"/>
              </a:rPr>
              <a:t>Pencillin reactions according to the time of occurrenc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Text Box 2"/>
          <p:cNvSpPr/>
          <p:nvPr/>
        </p:nvSpPr>
        <p:spPr>
          <a:xfrm>
            <a:off x="611280" y="2635200"/>
            <a:ext cx="8153280" cy="422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883800"/>
                <a:tab algn="l" pos="10333080"/>
                <a:tab algn="l" pos="1078236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Immediate (30 min) - IgE 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883800"/>
                <a:tab algn="l" pos="10333080"/>
                <a:tab algn="l" pos="1078236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Accelerated (2-72h) - IgE 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883800"/>
                <a:tab algn="l" pos="10333080"/>
                <a:tab algn="l" pos="1078236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Late (after 72h) - IgG, IgM, IgA, spec 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1"/>
          <p:cNvSpPr/>
          <p:nvPr/>
        </p:nvSpPr>
        <p:spPr>
          <a:xfrm>
            <a:off x="457200" y="1062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5000"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Arial"/>
              </a:rPr>
              <a:t>Reactions according to the pathophysiological mechanis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Text Box 2"/>
          <p:cNvSpPr/>
          <p:nvPr/>
        </p:nvSpPr>
        <p:spPr>
          <a:xfrm>
            <a:off x="457200" y="2590920"/>
            <a:ext cx="8229600" cy="422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1280" indent="-339840">
              <a:spcBef>
                <a:spcPts val="799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diated by immune mechanisms (specifically At or Ly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spcBef>
                <a:spcPts val="799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seudoallergic rea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spcBef>
                <a:spcPts val="799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crocerebral embolism-Hoigne's sy </a:t>
            </a:r>
            <a:r>
              <a:rPr b="0" lang="sr-Latn-RS" sz="3200" spc="-1" strike="noStrike" u="sng">
                <a:solidFill>
                  <a:srgbClr val="000000"/>
                </a:solidFill>
                <a:uFillTx/>
                <a:latin typeface="Arial"/>
              </a:rPr>
              <a:t>is not allergic rea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spcBef>
                <a:spcPts val="799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1"/>
          <p:cNvSpPr/>
          <p:nvPr/>
        </p:nvSpPr>
        <p:spPr>
          <a:xfrm>
            <a:off x="457200" y="1062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5000"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Arial"/>
              </a:rPr>
              <a:t>Allergic reactions mediated by immune mechanism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Text Box 2"/>
          <p:cNvSpPr/>
          <p:nvPr/>
        </p:nvSpPr>
        <p:spPr>
          <a:xfrm>
            <a:off x="457200" y="2743200"/>
            <a:ext cx="8229600" cy="40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1280" indent="-339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883800"/>
                <a:tab algn="l" pos="10333080"/>
                <a:tab algn="l" pos="1078236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Type I - anaphylactic shock, bronchospasm, urticaria, angioedem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883800"/>
                <a:tab algn="l" pos="10333080"/>
                <a:tab algn="l" pos="1078236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Type II - hemolytic anemia, thrombocytopenia, agranulocytosis, interstitial nephriti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883800"/>
                <a:tab algn="l" pos="10333080"/>
                <a:tab algn="l" pos="1078236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Type III- serum sickness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ver, rash, polyarthritis</a:t>
            </a: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, anaphylactoid purpura, Lupus like s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883800"/>
                <a:tab algn="l" pos="10333080"/>
                <a:tab algn="l" pos="1078236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Type IV - contact dermatitis, interstitial bronchopneumonia, hepatocellular dama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1"/>
          <p:cNvSpPr/>
          <p:nvPr/>
        </p:nvSpPr>
        <p:spPr>
          <a:xfrm>
            <a:off x="609480" y="1066680"/>
            <a:ext cx="8229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ADVERSE REACTIONS TO MEDICI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Text Box 2"/>
          <p:cNvSpPr/>
          <p:nvPr/>
        </p:nvSpPr>
        <p:spPr>
          <a:xfrm>
            <a:off x="468360" y="2287440"/>
            <a:ext cx="821844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1280" indent="-339840">
              <a:spcBef>
                <a:spcPts val="601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CTIONS INDEPENDENT OF DRU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spcBef>
                <a:spcPts val="601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sychogenic rea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spcBef>
                <a:spcPts val="601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sening of symptoms caused by the underlying disease (viral exanthema in children on antibiotic th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1"/>
          <p:cNvSpPr/>
          <p:nvPr/>
        </p:nvSpPr>
        <p:spPr>
          <a:xfrm>
            <a:off x="457200" y="1052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sr-Latn-CS" sz="3600" spc="-1" strike="noStrike">
                <a:solidFill>
                  <a:srgbClr val="c00000"/>
                </a:solidFill>
                <a:latin typeface="Arial"/>
              </a:rPr>
              <a:t>DIAGNOSTIC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Text Box 2"/>
          <p:cNvSpPr/>
          <p:nvPr/>
        </p:nvSpPr>
        <p:spPr>
          <a:xfrm>
            <a:off x="533520" y="2362320"/>
            <a:ext cx="81532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452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c At IgE to the major Ag determinant of penicillin dru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452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c At IgE to the minor Ag determinant of penicillin dru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452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kin test with a mixture of major Ag determinants (PPL tes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452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kin test with a mixture of minor Ag determinants (MDM tes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452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se provocation tests - only in the case of a type I reaction, if the skin test is negativ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452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1"/>
          <p:cNvSpPr/>
          <p:nvPr/>
        </p:nvSpPr>
        <p:spPr>
          <a:xfrm>
            <a:off x="457200" y="106668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sr-Latn-CS" sz="3600" spc="-1" strike="noStrike">
                <a:solidFill>
                  <a:srgbClr val="c00000"/>
                </a:solidFill>
                <a:latin typeface="Arial"/>
              </a:rPr>
              <a:t>PREVENTIVE MEASUR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Text Box 2"/>
          <p:cNvSpPr/>
          <p:nvPr/>
        </p:nvSpPr>
        <p:spPr>
          <a:xfrm>
            <a:off x="380880" y="1752480"/>
            <a:ext cx="830592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ution due to cross-reactions with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phalospori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lfonamid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cal anesthetic - novoca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ir dyes - Urso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se provocation tests should only be done if necessary and must be completed with a full one-time therapeutic dose of the drug. TEST RESULTS VALID FOR 6 MONTH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1"/>
          <p:cNvSpPr/>
          <p:nvPr/>
        </p:nvSpPr>
        <p:spPr>
          <a:xfrm>
            <a:off x="457200" y="1143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sr-Latn-CS" sz="3600" spc="-1" strike="noStrike">
                <a:solidFill>
                  <a:srgbClr val="c00000"/>
                </a:solidFill>
                <a:latin typeface="Arial"/>
              </a:rPr>
              <a:t>ASPIRIN INTOLERANC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Text Box 2"/>
          <p:cNvSpPr/>
          <p:nvPr/>
        </p:nvSpPr>
        <p:spPr>
          <a:xfrm>
            <a:off x="457200" y="2287440"/>
            <a:ext cx="8229600" cy="39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8640" indent="-4572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-immune reaction mechanis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8640" indent="-4572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hibition of COX and increased production of LT-E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8640" indent="-4572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rinary LT-E4 concentration ↑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8640" indent="-4572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olerance trigger 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a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ecurrent viral infection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1"/>
          <p:cNvSpPr/>
          <p:nvPr/>
        </p:nvSpPr>
        <p:spPr>
          <a:xfrm>
            <a:off x="457200" y="1062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sr-Latn-CS" sz="4000" spc="-1" strike="noStrike">
                <a:solidFill>
                  <a:srgbClr val="c00000"/>
                </a:solidFill>
                <a:latin typeface="Arial"/>
              </a:rPr>
              <a:t>CLINICAL PICTUR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Text Box 2"/>
          <p:cNvSpPr/>
          <p:nvPr/>
        </p:nvSpPr>
        <p:spPr>
          <a:xfrm>
            <a:off x="457200" y="2287440"/>
            <a:ext cx="8229600" cy="45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1280" indent="-339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883800"/>
                <a:tab algn="l" pos="10333080"/>
                <a:tab algn="l" pos="1078236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Bronchial asthm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883800"/>
                <a:tab algn="l" pos="10333080"/>
                <a:tab algn="l" pos="1078236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Allergic rhin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883800"/>
                <a:tab algn="l" pos="10333080"/>
                <a:tab algn="l" pos="1078236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Anaphylactic sho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883800"/>
                <a:tab algn="l" pos="10333080"/>
                <a:tab algn="l" pos="1078236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Angioedem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883800"/>
                <a:tab algn="l" pos="10333080"/>
                <a:tab algn="l" pos="1078236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Urticar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883800"/>
                <a:tab algn="l" pos="10333080"/>
                <a:tab algn="l" pos="1078236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Serum sickn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883800"/>
                <a:tab algn="l" pos="10333080"/>
                <a:tab algn="l" pos="1078236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Anaphylactoid purpur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883800"/>
                <a:tab algn="l" pos="10333080"/>
                <a:tab algn="l" pos="1078236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"Lupus like sy"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1"/>
          <p:cNvSpPr/>
          <p:nvPr/>
        </p:nvSpPr>
        <p:spPr>
          <a:xfrm>
            <a:off x="457200" y="1062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sr-Latn-CS" sz="4000" spc="-1" strike="noStrike">
                <a:solidFill>
                  <a:srgbClr val="c00000"/>
                </a:solidFill>
                <a:latin typeface="Arial"/>
              </a:rPr>
              <a:t>CLINICAL PICTUR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 Box 2"/>
          <p:cNvSpPr/>
          <p:nvPr/>
        </p:nvSpPr>
        <p:spPr>
          <a:xfrm>
            <a:off x="533520" y="2743200"/>
            <a:ext cx="815328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883800"/>
                <a:tab algn="l" pos="10333080"/>
                <a:tab algn="l" pos="1078236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Hemolytic anem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883800"/>
                <a:tab algn="l" pos="10333080"/>
                <a:tab algn="l" pos="1078236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Thrombocytopen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883800"/>
                <a:tab algn="l" pos="10333080"/>
                <a:tab algn="l" pos="1078236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Hepatocellular dama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883800"/>
                <a:tab algn="l" pos="10333080"/>
                <a:tab algn="l" pos="1078236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Intrstitial nephrit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883800"/>
                <a:tab algn="l" pos="10333080"/>
                <a:tab algn="l" pos="1078236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Contact dermatit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883800"/>
                <a:tab algn="l" pos="10333080"/>
                <a:tab algn="l" pos="1078236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ASPIRIN TRIAS - bronchial asthma + aspirin intolerance + nasal polyposi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1"/>
          <p:cNvSpPr/>
          <p:nvPr/>
        </p:nvSpPr>
        <p:spPr>
          <a:xfrm>
            <a:off x="539640" y="1052640"/>
            <a:ext cx="81946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8000"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Arial"/>
              </a:rPr>
              <a:t>DIAGNOSTIC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Text Box 2"/>
          <p:cNvSpPr/>
          <p:nvPr/>
        </p:nvSpPr>
        <p:spPr>
          <a:xfrm>
            <a:off x="539640" y="1844640"/>
            <a:ext cx="8147160" cy="463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452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ocation test (oral or inhalatio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452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kin tests are not important for dg because it is a non-immune mechanism of intoleranc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452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883800"/>
                <a:tab algn="l" pos="10333080"/>
                <a:tab algn="l" pos="10782360"/>
              </a:tabLst>
            </a:pPr>
            <a:r>
              <a:rPr b="1" lang="sr-Latn-CS" sz="3200" spc="-1" strike="noStrike">
                <a:solidFill>
                  <a:srgbClr val="c00000"/>
                </a:solidFill>
                <a:latin typeface="Arial"/>
              </a:rPr>
              <a:t>PREVENTIVE MEASU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452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oid aspir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452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oid</a:t>
            </a: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 th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rugs that cause cross-reaction intoler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452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oid of aspirin in chronic urticar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452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oiding food with additives - cross-intolerance, in asthm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452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1"/>
          <p:cNvSpPr/>
          <p:nvPr/>
        </p:nvSpPr>
        <p:spPr>
          <a:xfrm>
            <a:off x="468360" y="907920"/>
            <a:ext cx="8218440" cy="8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3000"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INTOLERANCE TO IODINE CONTRAST AG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Text Box 2"/>
          <p:cNvSpPr/>
          <p:nvPr/>
        </p:nvSpPr>
        <p:spPr>
          <a:xfrm>
            <a:off x="468360" y="1700280"/>
            <a:ext cx="8218440" cy="51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452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ypersensitivity to </a:t>
            </a:r>
            <a:r>
              <a:rPr b="0" lang="sr-Latn-RS" sz="1800" spc="-1" strike="noStrike">
                <a:solidFill>
                  <a:srgbClr val="000000"/>
                </a:solidFill>
                <a:latin typeface="Arial"/>
              </a:rPr>
              <a:t>iodine contrast agent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divided into</a:t>
            </a:r>
            <a:r>
              <a:rPr b="0" lang="sr-Latn-R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4520" indent="-343080" algn="just">
              <a:spcBef>
                <a:spcPts val="799"/>
              </a:spcBef>
              <a:buClr>
                <a:srgbClr val="ff0000"/>
              </a:buClr>
              <a:buFont typeface="Arial"/>
              <a:buAutoNum type="arabicPeriod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883800"/>
                <a:tab algn="l" pos="10333080"/>
                <a:tab algn="l" pos="10782360"/>
              </a:tabLst>
            </a:pPr>
            <a:r>
              <a:rPr b="0" lang="sr-Latn-RS" sz="18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mmediate hypersensitivity reaction (IHR)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which reactions occur within 1 h of ICM administration, an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4520" indent="-343080" algn="just">
              <a:spcBef>
                <a:spcPts val="799"/>
              </a:spcBef>
              <a:buClr>
                <a:srgbClr val="0000ff"/>
              </a:buClr>
              <a:buFont typeface="Arial"/>
              <a:buAutoNum type="arabicPeriod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883800"/>
                <a:tab algn="l" pos="10333080"/>
                <a:tab algn="l" pos="10782360"/>
              </a:tabLst>
            </a:pPr>
            <a:r>
              <a:rPr b="0" lang="sr-Latn-RS" sz="1800" spc="-1" strike="noStrike">
                <a:solidFill>
                  <a:srgbClr val="0000ff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on-immediate hypersensitivity reaction (NIHR)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ch occurs more than 1 h later. The latency of most NIHRs is 3 h to 2 days, and they usually resolve in one week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452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883800"/>
                <a:tab algn="l" pos="10333080"/>
                <a:tab algn="l" pos="10782360"/>
              </a:tabLst>
            </a:pPr>
            <a:r>
              <a:rPr b="0" lang="sr-Latn-R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 pathophysiological explanations</a:t>
            </a:r>
            <a:r>
              <a:rPr b="0" lang="sr-Latn-RS" sz="1800" spc="-1" strike="noStrike">
                <a:solidFill>
                  <a:srgbClr val="000000"/>
                </a:solidFill>
                <a:latin typeface="Arial"/>
              </a:rPr>
              <a:t> of IH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clude the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activation of mast cells and basophil</a:t>
            </a:r>
            <a:r>
              <a:rPr b="0" lang="sr-Latn-RS" sz="1800" spc="-1" strike="noStrike">
                <a:solidFill>
                  <a:srgbClr val="0000ff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, in addition to the release of histamine, tryptase, and other mediators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activation and release of mediators</a:t>
            </a:r>
            <a:r>
              <a:rPr b="0" lang="sr-Latn-RS" sz="1800" spc="-1" strike="noStrike">
                <a:solidFill>
                  <a:srgbClr val="000000"/>
                </a:solidFill>
                <a:latin typeface="Arial"/>
              </a:rPr>
              <a:t> in IH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an occur 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through the IgE-mediated immune pathway and</a:t>
            </a:r>
            <a:r>
              <a:rPr b="0" lang="sr-Latn-RS" sz="18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non-IgE pathways pathway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such as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activation of the complement systems, activation of the XII clotting system (leading to the production of bradykinin and conversion of L-arginine into nitric oxid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sr-Latn-R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452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n-immediate hypersensitivity reaction (NIHR) induced by </a:t>
            </a:r>
            <a:r>
              <a:rPr b="0" lang="sr-Latn-RS" sz="1800" spc="-1" strike="noStrike">
                <a:solidFill>
                  <a:srgbClr val="000000"/>
                </a:solidFill>
                <a:latin typeface="Arial"/>
              </a:rPr>
              <a:t>iodine contrast agent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an be evoked by a T-cell mediated pathwa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468360" y="2781360"/>
            <a:ext cx="8207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sr-Latn-R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 incidence of IHR and NIHR is about 0.5–3%</a:t>
            </a:r>
            <a:r>
              <a:rPr b="0" lang="sr-Latn-R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ost severe form of IHR is life-threatening</a:t>
            </a:r>
            <a:r>
              <a:rPr b="0" lang="sr-Latn-R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aphylactic shock with hypotension and loss of</a:t>
            </a:r>
            <a:r>
              <a:rPr b="0" lang="sr-Latn-R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ciousness, which has a prevalence of 0.04–0.28%</a:t>
            </a:r>
            <a:r>
              <a:rPr b="0" lang="sr-Latn-RS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Rectangle 2"/>
          <p:cNvSpPr/>
          <p:nvPr/>
        </p:nvSpPr>
        <p:spPr>
          <a:xfrm>
            <a:off x="900000" y="1341360"/>
            <a:ext cx="705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INTOLERANCE TO IODINE CONTRAST AG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1"/>
          <p:cNvSpPr/>
          <p:nvPr/>
        </p:nvSpPr>
        <p:spPr>
          <a:xfrm>
            <a:off x="324000" y="1916280"/>
            <a:ext cx="81356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scosity and osmolality play a role in the development of reactions to contrast agent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-osmolality contrast agents are ionic and have an osmolality 5</a:t>
            </a:r>
            <a:r>
              <a:rPr b="0" lang="sr-Latn-RS" sz="1800" spc="-1" strike="noStrike">
                <a:solidFill>
                  <a:srgbClr val="000000"/>
                </a:solidFill>
                <a:latin typeface="Arial"/>
              </a:rPr>
              <a:t>-7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imes</a:t>
            </a:r>
            <a:r>
              <a:rPr b="0" lang="sr-Latn-R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eater than biological fluids</a:t>
            </a:r>
            <a:r>
              <a:rPr b="0" lang="sr-Latn-R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nionic dimers have osmolality similar to blood, plasma and cerebrospinal fluid</a:t>
            </a:r>
            <a:r>
              <a:rPr b="0" lang="sr-Latn-R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refore</a:t>
            </a:r>
            <a:r>
              <a:rPr b="0" lang="sr-Latn-R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y significantly reduce the frequency of adverse reactions</a:t>
            </a:r>
            <a:r>
              <a:rPr b="0" lang="sr-Latn-RS" sz="18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rast </a:t>
            </a:r>
            <a:r>
              <a:rPr b="0" lang="sr-Latn-RS" sz="1800" spc="-1" strike="noStrike">
                <a:solidFill>
                  <a:srgbClr val="000000"/>
                </a:solidFill>
                <a:latin typeface="Arial"/>
              </a:rPr>
              <a:t>agent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1"/>
          <p:cNvSpPr/>
          <p:nvPr/>
        </p:nvSpPr>
        <p:spPr>
          <a:xfrm>
            <a:off x="611280" y="1197000"/>
            <a:ext cx="82296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4000"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RISK FACTORS </a:t>
            </a:r>
            <a:r>
              <a:rPr b="1" lang="sr-Latn-RS" sz="2800" spc="-1" strike="noStrike">
                <a:solidFill>
                  <a:srgbClr val="c00000"/>
                </a:solidFill>
                <a:latin typeface="Arial"/>
              </a:rPr>
              <a:t>FOR HYPERSENZITIVITY REACTIONS TO IODINE CONTRAST AG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 Box 2"/>
          <p:cNvSpPr/>
          <p:nvPr/>
        </p:nvSpPr>
        <p:spPr>
          <a:xfrm>
            <a:off x="457200" y="1905120"/>
            <a:ext cx="82296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5960" indent="-3427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883800"/>
                <a:tab algn="l" pos="10333080"/>
                <a:tab algn="l" pos="1078236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Patient age &gt;50 yea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5960" indent="-3427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883800"/>
                <a:tab algn="l" pos="10333080"/>
                <a:tab algn="l" pos="1078236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CV system disea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5960" indent="-3427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883800"/>
                <a:tab algn="l" pos="10333080"/>
                <a:tab algn="l" pos="1078236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kidney disea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5960" indent="-3427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883800"/>
                <a:tab algn="l" pos="10333080"/>
                <a:tab algn="l" pos="1078236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conditions associated with renovascular damage (diabetes mellitus, arterial hypertension,myeloma multiplex, hyperuricemia, dehydratio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5960" indent="-3427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883800"/>
                <a:tab algn="l" pos="10333080"/>
                <a:tab algn="l" pos="1078236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previous allergic reactions to different allerge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5960" indent="-3427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883800"/>
                <a:tab algn="l" pos="10333080"/>
                <a:tab algn="l" pos="1078236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bronchial asthm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5960" indent="-3427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883800"/>
                <a:tab algn="l" pos="10333080"/>
                <a:tab algn="l" pos="1078236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previous reactions to iodine contrast ag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1"/>
          <p:cNvSpPr/>
          <p:nvPr/>
        </p:nvSpPr>
        <p:spPr>
          <a:xfrm>
            <a:off x="457200" y="106668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REACTIONS CAUSED BY DRUG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Text Box 2"/>
          <p:cNvSpPr/>
          <p:nvPr/>
        </p:nvSpPr>
        <p:spPr>
          <a:xfrm>
            <a:off x="380880" y="1752480"/>
            <a:ext cx="84582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patients 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who are not hypersensitiv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drug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dose-toxic effe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wanted side effe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ug intera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PATIENTS 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WHO ARE HYPERSENSITIV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DRU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seudoallergic rea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iosyncrasy -metabol. deficiency (lack of G-6-PDH hemolytic anemi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mune reactions (participation of At or T L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>
              <a:spcBef>
                <a:spcPts val="6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1"/>
          <p:cNvSpPr/>
          <p:nvPr/>
        </p:nvSpPr>
        <p:spPr>
          <a:xfrm>
            <a:off x="457200" y="99072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9000"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CLINICAL PICTURE</a:t>
            </a:r>
            <a:r>
              <a:rPr b="1" lang="sr-Latn-RS" sz="2800" spc="-1" strike="noStrike">
                <a:solidFill>
                  <a:srgbClr val="c00000"/>
                </a:solidFill>
                <a:latin typeface="Arial"/>
              </a:rPr>
              <a:t> OF HYPERSENZITIVITY REACTIONS TO IODINE CONTRAST AG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Text Box 2"/>
          <p:cNvSpPr/>
          <p:nvPr/>
        </p:nvSpPr>
        <p:spPr>
          <a:xfrm>
            <a:off x="250920" y="1916280"/>
            <a:ext cx="8435880" cy="43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452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883800"/>
                <a:tab algn="l" pos="10333080"/>
                <a:tab algn="l" pos="1078236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Anaphylactic rea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452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883800"/>
                <a:tab algn="l" pos="10333080"/>
                <a:tab algn="l" pos="1078236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Bronchospas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452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883800"/>
                <a:tab algn="l" pos="10333080"/>
                <a:tab algn="l" pos="1078236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Rhinit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452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883800"/>
                <a:tab algn="l" pos="10333080"/>
                <a:tab algn="l" pos="1078236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Generalized urticar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452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883800"/>
                <a:tab algn="l" pos="10333080"/>
                <a:tab algn="l" pos="1078236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Angioedem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452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883800"/>
                <a:tab algn="l" pos="10333080"/>
                <a:tab algn="l" pos="1078236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Anaphylactic shoc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452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883800"/>
                <a:tab algn="l" pos="10333080"/>
                <a:tab algn="l" pos="1078236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Cardiopulmonary reac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452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883800"/>
                <a:tab algn="l" pos="10333080"/>
                <a:tab algn="l" pos="1078236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ulmonary edem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452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883800"/>
                <a:tab algn="l" pos="10333080"/>
                <a:tab algn="l" pos="1078236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Shoc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452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883800"/>
                <a:tab algn="l" pos="10333080"/>
                <a:tab algn="l" pos="1078236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Nausea, vomit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452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883800"/>
                <a:tab algn="l" pos="10333080"/>
                <a:tab algn="l" pos="1078236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Acute kidney failu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452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883800"/>
                <a:tab algn="l" pos="10333080"/>
                <a:tab algn="l" pos="1078236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Convuls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8" name=""/>
          <p:cNvGraphicFramePr/>
          <p:nvPr/>
        </p:nvGraphicFramePr>
        <p:xfrm>
          <a:off x="250920" y="1700280"/>
          <a:ext cx="8713800" cy="5172120"/>
        </p:xfrm>
        <a:graphic>
          <a:graphicData uri="http://schemas.openxmlformats.org/drawingml/2006/table">
            <a:tbl>
              <a:tblPr/>
              <a:tblGrid>
                <a:gridCol w="2905200"/>
                <a:gridCol w="2903400"/>
                <a:gridCol w="2905200"/>
              </a:tblGrid>
              <a:tr h="260280">
                <a:tc>
                  <a:txBody>
                    <a:bodyPr lIns="35640" rIns="35640" tIns="17640" bIns="176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5640" rIns="35640" tIns="17640" bIns="176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ergic-Like/Hypersensitivity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5640" rIns="35640" tIns="17640" bIns="176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emo-Toxic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9120">
                <a:tc>
                  <a:txBody>
                    <a:bodyPr lIns="35640" rIns="35640" tIns="17640" bIns="176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9966"/>
                          </a:solidFill>
                          <a:latin typeface="Arial"/>
                        </a:rPr>
                        <a:t>Mil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5640" rIns="35640" tIns="17640" bIns="176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5640" rIns="35640" tIns="17640" bIns="176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58840">
                <a:tc>
                  <a:txBody>
                    <a:bodyPr lIns="35640" rIns="35640" tIns="17640" bIns="176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5640" rIns="35640" tIns="17640" bIns="176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9966"/>
                          </a:solidFill>
                          <a:latin typeface="Arial"/>
                        </a:rPr>
                        <a:t>Limited urticaria/</a:t>
                      </a:r>
                      <a:r>
                        <a:rPr b="0" lang="sr-Latn-RS" sz="1000" spc="-1" strike="noStrike">
                          <a:solidFill>
                            <a:srgbClr val="3399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339966"/>
                          </a:solidFill>
                          <a:latin typeface="Arial"/>
                        </a:rPr>
                        <a:t>pruritis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5640" rIns="35640" tIns="17640" bIns="176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9966"/>
                          </a:solidFill>
                          <a:latin typeface="Arial"/>
                        </a:rPr>
                        <a:t>Limited nausea/</a:t>
                      </a:r>
                      <a:r>
                        <a:rPr b="0" lang="sr-Latn-RS" sz="1000" spc="-1" strike="noStrike">
                          <a:solidFill>
                            <a:srgbClr val="3399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339966"/>
                          </a:solidFill>
                          <a:latin typeface="Arial"/>
                        </a:rPr>
                        <a:t>vomiting limited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8840">
                <a:tc>
                  <a:txBody>
                    <a:bodyPr lIns="35640" rIns="35640" tIns="17640" bIns="176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5640" rIns="35640" tIns="17640" bIns="176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9966"/>
                          </a:solidFill>
                          <a:latin typeface="Arial"/>
                        </a:rPr>
                        <a:t>Cutaneous edema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5640" rIns="35640" tIns="17640" bIns="176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9966"/>
                          </a:solidFill>
                          <a:latin typeface="Arial"/>
                        </a:rPr>
                        <a:t>Transient flushing/</a:t>
                      </a:r>
                      <a:r>
                        <a:rPr b="0" lang="sr-Latn-RS" sz="1000" spc="-1" strike="noStrike">
                          <a:solidFill>
                            <a:srgbClr val="3399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339966"/>
                          </a:solidFill>
                          <a:latin typeface="Arial"/>
                        </a:rPr>
                        <a:t>warmth/chills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0280">
                <a:tc>
                  <a:txBody>
                    <a:bodyPr lIns="35640" rIns="35640" tIns="17640" bIns="176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5640" rIns="35640" tIns="17640" bIns="176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9966"/>
                          </a:solidFill>
                          <a:latin typeface="Arial"/>
                        </a:rPr>
                        <a:t>Limited “itchy”/”scratchy” throat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5640" rIns="35640" tIns="17640" bIns="176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9966"/>
                          </a:solidFill>
                          <a:latin typeface="Arial"/>
                        </a:rPr>
                        <a:t>Headache</a:t>
                      </a:r>
                      <a:r>
                        <a:rPr b="0" lang="sr-Latn-RS" sz="1000" spc="-1" strike="noStrike">
                          <a:solidFill>
                            <a:srgbClr val="3399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339966"/>
                          </a:solidFill>
                          <a:latin typeface="Arial"/>
                        </a:rPr>
                        <a:t>/dizziness/</a:t>
                      </a:r>
                      <a:r>
                        <a:rPr b="0" lang="sr-Latn-RS" sz="1000" spc="-1" strike="noStrike">
                          <a:solidFill>
                            <a:srgbClr val="3399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339966"/>
                          </a:solidFill>
                          <a:latin typeface="Arial"/>
                        </a:rPr>
                        <a:t>anxiety/</a:t>
                      </a:r>
                      <a:r>
                        <a:rPr b="0" lang="sr-Latn-RS" sz="1000" spc="-1" strike="noStrike">
                          <a:solidFill>
                            <a:srgbClr val="3399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339966"/>
                          </a:solidFill>
                          <a:latin typeface="Arial"/>
                        </a:rPr>
                        <a:t>altered tast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9120">
                <a:tc>
                  <a:txBody>
                    <a:bodyPr lIns="35640" rIns="35640" tIns="17640" bIns="176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5640" rIns="35640" tIns="17640" bIns="176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9966"/>
                          </a:solidFill>
                          <a:latin typeface="Arial"/>
                        </a:rPr>
                        <a:t>Nasal congestion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5640" rIns="35640" tIns="17640" bIns="176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9966"/>
                          </a:solidFill>
                          <a:latin typeface="Arial"/>
                        </a:rPr>
                        <a:t>Mild hypertension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22560">
                <a:tc>
                  <a:txBody>
                    <a:bodyPr lIns="35640" rIns="35640" tIns="17640" bIns="176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5640" rIns="35640" tIns="17640" bIns="176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9966"/>
                          </a:solidFill>
                          <a:latin typeface="Arial"/>
                        </a:rPr>
                        <a:t>Sneezing</a:t>
                      </a:r>
                      <a:r>
                        <a:rPr b="0" lang="sr-Latn-RS" sz="1000" spc="-1" strike="noStrike">
                          <a:solidFill>
                            <a:srgbClr val="3399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339966"/>
                          </a:solidFill>
                          <a:latin typeface="Arial"/>
                        </a:rPr>
                        <a:t>/conjunctivitis</a:t>
                      </a:r>
                      <a:r>
                        <a:rPr b="0" lang="sr-Latn-RS" sz="1000" spc="-1" strike="noStrike">
                          <a:solidFill>
                            <a:srgbClr val="3399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339966"/>
                          </a:solidFill>
                          <a:latin typeface="Arial"/>
                        </a:rPr>
                        <a:t>/rhinorrhea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5640" rIns="35640" tIns="17640" bIns="176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9966"/>
                          </a:solidFill>
                          <a:latin typeface="Arial"/>
                        </a:rPr>
                        <a:t>Vasovagal reaction that resolves spontaneously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9120">
                <a:tc>
                  <a:txBody>
                    <a:bodyPr lIns="35640" rIns="35640" tIns="17640" bIns="176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Moderat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5640" rIns="35640" tIns="17640" bIns="176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5640" rIns="35640" tIns="17640" bIns="176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58840">
                <a:tc>
                  <a:txBody>
                    <a:bodyPr lIns="35640" rIns="35640" tIns="17640" bIns="176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5640" rIns="35640" tIns="17640" bIns="176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Diffuse urticaria/pruritis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5640" rIns="35640" tIns="17640" bIns="176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Protracted nausea/vomiting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8480">
                <a:tc>
                  <a:txBody>
                    <a:bodyPr lIns="35640" rIns="35640" tIns="17640" bIns="176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5640" rIns="35640" tIns="17640" bIns="176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Diffuse erythema, stable vital signs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5640" rIns="35640" tIns="17640" bIns="176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Hypertensive urgency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0640">
                <a:tc>
                  <a:txBody>
                    <a:bodyPr lIns="35640" rIns="35640" tIns="17640" bIns="176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5640" rIns="35640" tIns="17640" bIns="176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Facial edema without dyspnea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5640" rIns="35640" tIns="17640" bIns="176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Isolated chest pain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9720">
                <a:tc>
                  <a:txBody>
                    <a:bodyPr lIns="35640" rIns="35640" tIns="17640" bIns="176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5640" rIns="35640" tIns="17640" bIns="176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Throat tightness or hoarseness without dyspnea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5640" rIns="35640" tIns="17640" bIns="176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Vasovagal reaction that requires and is responsive to treatment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0280">
                <a:tc>
                  <a:txBody>
                    <a:bodyPr lIns="35640" rIns="35640" tIns="17640" bIns="176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5640" rIns="35640" tIns="17640" bIns="176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Wheezing/</a:t>
                      </a:r>
                      <a:r>
                        <a:rPr b="0" lang="sr-Latn-RS" sz="10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ff9900"/>
                          </a:solidFill>
                          <a:latin typeface="Arial"/>
                        </a:rPr>
                        <a:t>bronchospasm, mild or no hypoxia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5640" rIns="35640" tIns="17640" bIns="176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8760">
                <a:tc>
                  <a:txBody>
                    <a:bodyPr lIns="35640" rIns="35640" tIns="17640" bIns="176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eve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5640" rIns="35640" tIns="17640" bIns="176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5640" rIns="35640" tIns="17640" bIns="176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60280">
                <a:tc>
                  <a:txBody>
                    <a:bodyPr lIns="35640" rIns="35640" tIns="17640" bIns="176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5640" rIns="35640" tIns="17640" bIns="176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Diffuse edema, or facial edema with dyspnea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5640" rIns="35640" tIns="17640" bIns="176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Vasovagal reaction resistant to treatment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8840">
                <a:tc>
                  <a:txBody>
                    <a:bodyPr lIns="35640" rIns="35640" tIns="17640" bIns="176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5640" rIns="35640" tIns="17640" bIns="176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Diffuse erythema with hypotension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5640" rIns="35640" tIns="17640" bIns="176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rrhythmia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0280">
                <a:tc>
                  <a:txBody>
                    <a:bodyPr lIns="35640" rIns="35640" tIns="17640" bIns="176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5640" rIns="35640" tIns="17640" bIns="176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Laryngeal edema with stridor and/or hypoxia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5640" rIns="35640" tIns="17640" bIns="176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onvulsions, seizures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8840">
                <a:tc>
                  <a:txBody>
                    <a:bodyPr lIns="35640" rIns="35640" tIns="17640" bIns="176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5640" rIns="35640" tIns="17640" bIns="176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Wheezing/</a:t>
                      </a:r>
                      <a:r>
                        <a:rPr b="0" lang="sr-Latn-RS" sz="1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bronchospasm, significant hypoxia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35640" rIns="35640" tIns="17640" bIns="176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Hypertensive emergency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9000">
                <a:tc>
                  <a:txBody>
                    <a:bodyPr lIns="35640" rIns="35640" tIns="17640" bIns="176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5640" rIns="35640" tIns="17640" bIns="176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naphylactic shock (hypotension + tachycardia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35640" rIns="35640" tIns="17640" bIns="176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35640" marR="35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432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Rectangle 1"/>
          <p:cNvSpPr/>
          <p:nvPr/>
        </p:nvSpPr>
        <p:spPr>
          <a:xfrm>
            <a:off x="250920" y="843840"/>
            <a:ext cx="8281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sr-Latn-RS" sz="1200" spc="-1" strike="noStrike">
                <a:solidFill>
                  <a:srgbClr val="000000"/>
                </a:solidFill>
                <a:latin typeface="Arial"/>
              </a:rPr>
              <a:t>ADVERSE REACTIONS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related to the intravascular administration of ICM can be divided into two types: 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hypersensitivity (allergic-like) events and chemo-toxic even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Categories of acute adverse reactions adapted from the ACR Manual on Contrast Media and ESUR Guideline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1"/>
          <p:cNvSpPr/>
          <p:nvPr/>
        </p:nvSpPr>
        <p:spPr>
          <a:xfrm>
            <a:off x="533520" y="105264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Arial"/>
              </a:rPr>
              <a:t>DIAGNOSTIC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2"/>
          <p:cNvSpPr/>
          <p:nvPr/>
        </p:nvSpPr>
        <p:spPr>
          <a:xfrm>
            <a:off x="533520" y="2362320"/>
            <a:ext cx="81532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is no absolutely sure diagnostic tes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kin test results are unreliab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negative skin test does not mean safet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"/>
          <p:cNvSpPr/>
          <p:nvPr/>
        </p:nvSpPr>
        <p:spPr>
          <a:xfrm>
            <a:off x="611280" y="2274840"/>
            <a:ext cx="806436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hibition of administration of iodine contrast agents in patients with a clinical picture of laryngospasm, anaphylactic shock, asthmatic attack</a:t>
            </a: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acute kidney failu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ternative procedures (magnetic resonance, ultra</a:t>
            </a: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nd) can sometimes be used in </a:t>
            </a: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high risk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tients</a:t>
            </a: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uropean consensus report for the prevention of generalized</a:t>
            </a: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rly reactions to iodine contrast agents recommended</a:t>
            </a: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th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non-ionic iodine contrast agent</a:t>
            </a: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2"/>
          <p:cNvSpPr/>
          <p:nvPr/>
        </p:nvSpPr>
        <p:spPr>
          <a:xfrm>
            <a:off x="1042920" y="1125360"/>
            <a:ext cx="69850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sr-Latn-CS" sz="3600" spc="-1" strike="noStrike">
                <a:solidFill>
                  <a:srgbClr val="c00000"/>
                </a:solidFill>
                <a:latin typeface="Arial"/>
              </a:rPr>
              <a:t>PREVENTIVE MEASUR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1"/>
          <p:cNvSpPr/>
          <p:nvPr/>
        </p:nvSpPr>
        <p:spPr>
          <a:xfrm>
            <a:off x="468360" y="981000"/>
            <a:ext cx="8218440" cy="6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3000"/>
          </a:bodyPr>
          <a:p>
            <a:pPr marL="1807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1807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sr-Latn-CS" sz="3600" spc="-1" strike="noStrike">
                <a:solidFill>
                  <a:srgbClr val="c00000"/>
                </a:solidFill>
                <a:latin typeface="Arial"/>
              </a:rPr>
              <a:t>PREVENTIVE MEASUR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1807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2"/>
          <p:cNvSpPr/>
          <p:nvPr/>
        </p:nvSpPr>
        <p:spPr>
          <a:xfrm>
            <a:off x="250920" y="1676520"/>
            <a:ext cx="8435880" cy="492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440">
              <a:spcBef>
                <a:spcPts val="601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approved for use in patients with mild forms of intolerance</a:t>
            </a: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Th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use o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emedication</a:t>
            </a: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 in these cases is mandator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440">
              <a:spcBef>
                <a:spcPts val="601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 of iodine contrast is approved in persons </a:t>
            </a: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who have onl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sk factors </a:t>
            </a: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no previous incidents with these agents</a:t>
            </a: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. Th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use o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emedication</a:t>
            </a: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 in these cases is mandator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440">
              <a:spcBef>
                <a:spcPts val="601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1"/>
          <p:cNvSpPr/>
          <p:nvPr/>
        </p:nvSpPr>
        <p:spPr>
          <a:xfrm>
            <a:off x="468360" y="1052640"/>
            <a:ext cx="82184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5000"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Arial"/>
              </a:rPr>
              <a:t>PREVENTIVE MEASUR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2"/>
          <p:cNvSpPr/>
          <p:nvPr/>
        </p:nvSpPr>
        <p:spPr>
          <a:xfrm>
            <a:off x="250920" y="1628640"/>
            <a:ext cx="843588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7600" indent="-326160">
              <a:spcBef>
                <a:spcPts val="799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883800"/>
                <a:tab algn="l" pos="10333080"/>
                <a:tab algn="l" pos="10782360"/>
              </a:tabLst>
            </a:pPr>
            <a:r>
              <a:rPr b="1" lang="sr-Latn-CS" sz="2400" spc="-1" strike="noStrike">
                <a:solidFill>
                  <a:srgbClr val="c00000"/>
                </a:solidFill>
                <a:latin typeface="Arial"/>
              </a:rPr>
              <a:t>Premedicatio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7600" indent="-326160">
              <a:spcBef>
                <a:spcPts val="799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883800"/>
                <a:tab algn="l" pos="10333080"/>
                <a:tab algn="l" pos="10782360"/>
              </a:tabLst>
            </a:pPr>
            <a:r>
              <a:rPr b="0" lang="sr-Latn-CS" sz="2400" spc="-1" strike="noStrike">
                <a:solidFill>
                  <a:srgbClr val="c00000"/>
                </a:solidFill>
                <a:latin typeface="Arial"/>
              </a:rPr>
              <a:t>Glucocorticoids: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Pronisone 50 mg per os (13h, 7h and 1h before iodine contrast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7600" indent="-326160">
              <a:spcBef>
                <a:spcPts val="799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883800"/>
                <a:tab algn="l" pos="10333080"/>
                <a:tab algn="l" pos="1078236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or Hydrocortisone iv: 200 mg iv. (1 h before iodine contrast)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7600" indent="-326160">
              <a:spcBef>
                <a:spcPts val="799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883800"/>
                <a:tab algn="l" pos="10333080"/>
                <a:tab algn="l" pos="1078236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or Methylprednisolone per os: 32 mg per os (12h and 2h before iodine contras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7600" indent="-326160">
              <a:spcBef>
                <a:spcPts val="799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883800"/>
                <a:tab algn="l" pos="10333080"/>
                <a:tab algn="l" pos="10782360"/>
              </a:tabLst>
            </a:pPr>
            <a:r>
              <a:rPr b="0" lang="sr-Latn-CS" sz="2400" spc="-1" strike="noStrike">
                <a:solidFill>
                  <a:srgbClr val="c00000"/>
                </a:solidFill>
                <a:latin typeface="Arial"/>
              </a:rPr>
              <a:t>Antihistamines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H1 blocker (Diphenhydramine 50mg iv, im, per os), 1h before iodine contras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7600" indent="-326160">
              <a:spcBef>
                <a:spcPts val="799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883800"/>
                <a:tab algn="l" pos="10333080"/>
                <a:tab algn="l" pos="10782360"/>
              </a:tabLst>
            </a:pPr>
            <a:r>
              <a:rPr b="0" lang="sr-Latn-CS" sz="2400" spc="-1" strike="noStrike">
                <a:solidFill>
                  <a:srgbClr val="c00000"/>
                </a:solidFill>
                <a:latin typeface="Arial"/>
              </a:rPr>
              <a:t>Do not prescribe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: ß-blockers, MAO inhibitors and ACE inhibitors before administration of iodine contras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1"/>
          <p:cNvSpPr/>
          <p:nvPr/>
        </p:nvSpPr>
        <p:spPr>
          <a:xfrm>
            <a:off x="457200" y="1062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5000"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INTOLERANCE TO LOCAL ANESTHETIC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Text Box 2"/>
          <p:cNvSpPr/>
          <p:nvPr/>
        </p:nvSpPr>
        <p:spPr>
          <a:xfrm>
            <a:off x="533520" y="2438280"/>
            <a:ext cx="815328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5960" indent="-342720" algn="just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883800"/>
                <a:tab algn="l" pos="10333080"/>
                <a:tab algn="l" pos="1078236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Allergic and pseudoallergic reactions are rar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5960" indent="-342720" algn="just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883800"/>
                <a:tab algn="l" pos="10333080"/>
                <a:tab algn="l" pos="1078236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Inappropriate reactions without release of mediators are common (toxic, sympathetic stimulation, vasovagal reactions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5960" indent="-342720" algn="just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883800"/>
                <a:tab algn="l" pos="10333080"/>
                <a:tab algn="l" pos="1078236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Group I anesthetics - benzoic esters (novocaine, benyocaine, chlorprocaine) cross-reactions within group I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5960" indent="-342720" algn="just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883800"/>
                <a:tab algn="l" pos="10333080"/>
                <a:tab algn="l" pos="1078236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Group II anesthetics - amide structure (lidocaine, etidrocaine, dibucaine), no cross-reactions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457200" y="106668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Inappropriate toxic systemic reactions to local anesthe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380880" y="2514600"/>
            <a:ext cx="83059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883800"/>
                <a:tab algn="l" pos="10333080"/>
                <a:tab algn="l" pos="1078236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Due t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883800"/>
                <a:tab algn="l" pos="10333080"/>
                <a:tab algn="l" pos="1078236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Overdo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883800"/>
                <a:tab algn="l" pos="10333080"/>
                <a:tab algn="l" pos="1078236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Too fast administration of anesthe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883800"/>
                <a:tab algn="l" pos="10333080"/>
                <a:tab algn="l" pos="1078236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Intravenous anesthetic administra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883800"/>
                <a:tab algn="l" pos="10333080"/>
                <a:tab algn="l" pos="1078236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CNS: euphoria, restlessness, speech disorder, dizziness, vomiting, convulsions, com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883800"/>
                <a:tab algn="l" pos="10333080"/>
                <a:tab algn="l" pos="1078236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CV: SVT, VT, cardiac arre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1"/>
          <p:cNvSpPr/>
          <p:nvPr/>
        </p:nvSpPr>
        <p:spPr>
          <a:xfrm>
            <a:off x="457200" y="181080"/>
            <a:ext cx="82296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2"/>
          <p:cNvSpPr/>
          <p:nvPr/>
        </p:nvSpPr>
        <p:spPr>
          <a:xfrm>
            <a:off x="324000" y="1268280"/>
            <a:ext cx="8345160" cy="519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883800"/>
                <a:tab algn="l" pos="10333080"/>
                <a:tab algn="l" pos="1078236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Non-allergic reactions due to sympathetic stimulation: anxiety, tremors, sweating, tachycardia, HT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883800"/>
                <a:tab algn="l" pos="10333080"/>
                <a:tab algn="l" pos="1078236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Non-allergic reactions due to parasympathetic stimulation: hyperventilation, hysteri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883800"/>
                <a:tab algn="l" pos="10333080"/>
                <a:tab algn="l" pos="1078236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Pseudoallergic reactions (anaphylactoid, anaphylatoxi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883800"/>
                <a:tab algn="l" pos="10333080"/>
                <a:tab algn="l" pos="1078236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Allergic reactions - mediated by IgE, IgM, Ig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1"/>
          <p:cNvSpPr/>
          <p:nvPr/>
        </p:nvSpPr>
        <p:spPr>
          <a:xfrm>
            <a:off x="395280" y="1268280"/>
            <a:ext cx="82645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6000"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sr-Latn-CS" sz="2800" spc="-1" strike="noStrike">
                <a:solidFill>
                  <a:srgbClr val="c00000"/>
                </a:solidFill>
                <a:latin typeface="Arial"/>
              </a:rPr>
              <a:t>CLINICAL PICTURE OF HYPERSENZITIVE REACTIONS ON LOCAL ANESTE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2"/>
          <p:cNvSpPr/>
          <p:nvPr/>
        </p:nvSpPr>
        <p:spPr>
          <a:xfrm>
            <a:off x="457200" y="2590920"/>
            <a:ext cx="822960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8640" indent="-4572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883800"/>
                <a:tab algn="l" pos="10333080"/>
                <a:tab algn="l" pos="1078236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Anaphylactic reaction (urticaria, angioedema, bronchospasm, systemic anaphylaxi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8640" indent="-4572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883800"/>
                <a:tab algn="l" pos="10333080"/>
                <a:tab algn="l" pos="1078236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Hypersensitivity vasculitis (serum disease, anaphylactoid purpur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1"/>
          <p:cNvSpPr/>
          <p:nvPr/>
        </p:nvSpPr>
        <p:spPr>
          <a:xfrm>
            <a:off x="457200" y="1062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5000"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Arial"/>
              </a:rPr>
              <a:t>CLASSIFICATION ACCORDING TO IMMUNE MECHANIS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Text Box 2"/>
          <p:cNvSpPr/>
          <p:nvPr/>
        </p:nvSpPr>
        <p:spPr>
          <a:xfrm>
            <a:off x="457200" y="2492280"/>
            <a:ext cx="8229600" cy="432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1280" indent="-339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883800"/>
                <a:tab algn="l" pos="10333080"/>
                <a:tab algn="l" pos="1078236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Type I - systemic anaphylax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883800"/>
                <a:tab algn="l" pos="10333080"/>
                <a:tab algn="l" pos="1078236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urticar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883800"/>
                <a:tab algn="l" pos="10333080"/>
                <a:tab algn="l" pos="1078236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angioedem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883800"/>
                <a:tab algn="l" pos="10333080"/>
                <a:tab algn="l" pos="1078236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bronchial asthm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883800"/>
                <a:tab algn="l" pos="10333080"/>
                <a:tab algn="l" pos="1078236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allergic rhinit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883800"/>
                <a:tab algn="l" pos="10333080"/>
                <a:tab algn="l" pos="1078236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Type II - hemolytic anem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883800"/>
                <a:tab algn="l" pos="10333080"/>
                <a:tab algn="l" pos="1078236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thrombocytopen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883800"/>
                <a:tab algn="l" pos="10333080"/>
                <a:tab algn="l" pos="1078236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agranulocytos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883800"/>
                <a:tab algn="l" pos="10333080"/>
                <a:tab algn="l" pos="1078236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interstitial nephritis (Methicillin, Phenytoin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1"/>
          <p:cNvSpPr/>
          <p:nvPr/>
        </p:nvSpPr>
        <p:spPr>
          <a:xfrm>
            <a:off x="457200" y="106668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sr-Latn-CS" sz="3600" spc="-1" strike="noStrike">
                <a:solidFill>
                  <a:srgbClr val="c00000"/>
                </a:solidFill>
                <a:latin typeface="Arial"/>
              </a:rPr>
              <a:t>DIAGNOSTIC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Text Box 2"/>
          <p:cNvSpPr/>
          <p:nvPr/>
        </p:nvSpPr>
        <p:spPr>
          <a:xfrm>
            <a:off x="380880" y="190512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ocation tests are reliabl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 algn="ctr">
              <a:spcBef>
                <a:spcPts val="799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883800"/>
                <a:tab algn="l" pos="10333080"/>
                <a:tab algn="l" pos="10782360"/>
              </a:tabLst>
            </a:pPr>
            <a:r>
              <a:rPr b="1" lang="sr-Latn-CS" sz="3200" spc="-1" strike="noStrike">
                <a:solidFill>
                  <a:srgbClr val="c00000"/>
                </a:solidFill>
                <a:latin typeface="Arial"/>
              </a:rPr>
              <a:t>PREVENTIVE MEASU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of anesthetics from group II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1"/>
          <p:cNvSpPr/>
          <p:nvPr/>
        </p:nvSpPr>
        <p:spPr>
          <a:xfrm>
            <a:off x="457200" y="1143000"/>
            <a:ext cx="82296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INTOLERANCE TO GENERAL ANESTHETICS and MYORELAXAN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Text Box 2"/>
          <p:cNvSpPr/>
          <p:nvPr/>
        </p:nvSpPr>
        <p:spPr>
          <a:xfrm>
            <a:off x="611280" y="2852640"/>
            <a:ext cx="830556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4440" indent="-333000">
              <a:spcBef>
                <a:spcPts val="601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seudoallergic reactions to general anesthetics and allergic reactions to muscle relaxants are comm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4440" indent="-333000">
              <a:spcBef>
                <a:spcPts val="601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4440" indent="-333000">
              <a:spcBef>
                <a:spcPts val="601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difficult to distinguish the cause of the allergy (musorelaxant, anesthetic, rubber</a:t>
            </a: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-lat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lasma expander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4440" indent="-333000">
              <a:spcBef>
                <a:spcPts val="601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4440" indent="-333000">
              <a:spcBef>
                <a:spcPts val="601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ten with long-term surgical interven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1"/>
          <p:cNvSpPr/>
          <p:nvPr/>
        </p:nvSpPr>
        <p:spPr>
          <a:xfrm>
            <a:off x="457200" y="1062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sr-Latn-CS" sz="3200" spc="-1" strike="noStrike">
                <a:solidFill>
                  <a:srgbClr val="c00000"/>
                </a:solidFill>
                <a:latin typeface="Arial"/>
              </a:rPr>
              <a:t>RISK FACTORS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 Box 2"/>
          <p:cNvSpPr/>
          <p:nvPr/>
        </p:nvSpPr>
        <p:spPr>
          <a:xfrm>
            <a:off x="395280" y="2287440"/>
            <a:ext cx="8291520" cy="431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864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883800"/>
                <a:tab algn="l" pos="10333080"/>
                <a:tab algn="l" pos="1078236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Gender-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864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vious incidents in general anesthe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864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xistence of spina bifida and frequent and extensive surgical interventi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8640" indent="-45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onchial asthma and atopic constitu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8640" indent="-457200">
              <a:spcBef>
                <a:spcPts val="700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8640" indent="-457200">
              <a:spcBef>
                <a:spcPts val="700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ERGIES TO OTHER MEDICINES AND FOOD ARE NOT A RISK FACT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1"/>
          <p:cNvSpPr/>
          <p:nvPr/>
        </p:nvSpPr>
        <p:spPr>
          <a:xfrm>
            <a:off x="457200" y="1062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sr-Latn-CS" sz="3200" spc="-1" strike="noStrike">
                <a:solidFill>
                  <a:srgbClr val="c00000"/>
                </a:solidFill>
                <a:latin typeface="Arial"/>
              </a:rPr>
              <a:t>CLINICAL PIC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2"/>
          <p:cNvSpPr/>
          <p:nvPr/>
        </p:nvSpPr>
        <p:spPr>
          <a:xfrm>
            <a:off x="457200" y="2287440"/>
            <a:ext cx="8229600" cy="45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1280" indent="-339840">
              <a:spcBef>
                <a:spcPts val="799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883800"/>
                <a:tab algn="l" pos="10333080"/>
                <a:tab algn="l" pos="1078236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Anaphylactic reaction (urticaria, angioedema, bronchospasm, systemic anaphylax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spcBef>
                <a:spcPts val="799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883800"/>
                <a:tab algn="l" pos="10333080"/>
                <a:tab algn="l" pos="1078236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sr-Latn-CS" sz="3200" spc="-1" strike="noStrike">
                <a:solidFill>
                  <a:srgbClr val="c00000"/>
                </a:solidFill>
                <a:latin typeface="Arial"/>
              </a:rPr>
              <a:t>DIAGNOST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spcBef>
                <a:spcPts val="799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883800"/>
                <a:tab algn="l" pos="10333080"/>
                <a:tab algn="l" pos="1078236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Dose provocation tests are reli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spcBef>
                <a:spcPts val="799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883800"/>
                <a:tab algn="l" pos="10333080"/>
                <a:tab algn="l" pos="1078236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Specific IgE At (in case of allergic reaction to muscle relaxant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1"/>
          <p:cNvSpPr/>
          <p:nvPr/>
        </p:nvSpPr>
        <p:spPr>
          <a:xfrm>
            <a:off x="434880" y="1052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sr-Latn-CS" sz="3600" spc="-1" strike="noStrike">
                <a:solidFill>
                  <a:srgbClr val="c00000"/>
                </a:solidFill>
                <a:latin typeface="Arial"/>
              </a:rPr>
              <a:t>PREVENTIVE MEASUR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Text Box 2"/>
          <p:cNvSpPr/>
          <p:nvPr/>
        </p:nvSpPr>
        <p:spPr>
          <a:xfrm>
            <a:off x="457200" y="2287440"/>
            <a:ext cx="8229600" cy="45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864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883800"/>
                <a:tab algn="l" pos="10333080"/>
                <a:tab algn="l" pos="1078236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The 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 of alternative anesthetics for general anesthesia and muscle relaxan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8640" indent="-457200">
              <a:spcBef>
                <a:spcPts val="799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864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ypes of anesthesia (spinal, inhalation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8640" indent="-457200">
              <a:spcBef>
                <a:spcPts val="799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1" descr=""/>
          <p:cNvPicPr/>
          <p:nvPr/>
        </p:nvPicPr>
        <p:blipFill>
          <a:blip r:embed="rId1"/>
          <a:stretch/>
        </p:blipFill>
        <p:spPr>
          <a:xfrm>
            <a:off x="0" y="61920"/>
            <a:ext cx="9144000" cy="6813720"/>
          </a:xfrm>
          <a:prstGeom prst="rect">
            <a:avLst/>
          </a:prstGeom>
          <a:ln w="0">
            <a:noFill/>
          </a:ln>
        </p:spPr>
      </p:pic>
      <p:sp>
        <p:nvSpPr>
          <p:cNvPr id="127" name="Rectangle 2"/>
          <p:cNvSpPr/>
          <p:nvPr/>
        </p:nvSpPr>
        <p:spPr>
          <a:xfrm>
            <a:off x="1835280" y="2637000"/>
            <a:ext cx="604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HANK YOU FOR YOUR ATTEN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1"/>
          <p:cNvSpPr/>
          <p:nvPr/>
        </p:nvSpPr>
        <p:spPr>
          <a:xfrm>
            <a:off x="450720" y="1268280"/>
            <a:ext cx="83343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3000"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CLASSIFICATION ACCORDING TO IMMUNE MECHANIS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Text Box 2"/>
          <p:cNvSpPr/>
          <p:nvPr/>
        </p:nvSpPr>
        <p:spPr>
          <a:xfrm>
            <a:off x="450720" y="2492280"/>
            <a:ext cx="8236080" cy="432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883800"/>
                <a:tab algn="l" pos="10333080"/>
                <a:tab algn="l" pos="1078236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Type III - </a:t>
            </a:r>
            <a:r>
              <a:rPr b="0" lang="sr-Latn-CS" sz="2800" spc="-1" strike="noStrike" u="sng">
                <a:solidFill>
                  <a:srgbClr val="000000"/>
                </a:solidFill>
                <a:uFillTx/>
                <a:latin typeface="Arial"/>
              </a:rPr>
              <a:t>serum sickness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Latn-CS" sz="2800" spc="-1" strike="noStrike" u="sng">
                <a:solidFill>
                  <a:srgbClr val="000000"/>
                </a:solidFill>
                <a:uFillTx/>
                <a:latin typeface="Arial"/>
              </a:rPr>
              <a:t>penicillin drug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883800"/>
                <a:tab algn="l" pos="10333080"/>
                <a:tab algn="l" pos="10782360"/>
              </a:tabLst>
            </a:pPr>
            <a:r>
              <a:rPr b="0" lang="sr-Latn-CS" sz="2800" spc="-1" strike="noStrike" u="sng">
                <a:solidFill>
                  <a:srgbClr val="000000"/>
                </a:solidFill>
                <a:uFillTx/>
                <a:latin typeface="Arial"/>
              </a:rPr>
              <a:t>           </a:t>
            </a:r>
            <a:r>
              <a:rPr b="0" lang="sr-Latn-CS" sz="2800" spc="-1" strike="noStrike" u="sng">
                <a:solidFill>
                  <a:srgbClr val="000000"/>
                </a:solidFill>
                <a:uFillTx/>
                <a:latin typeface="Arial"/>
              </a:rPr>
              <a:t>anaphylactoid purpur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883800"/>
                <a:tab algn="l" pos="10333080"/>
                <a:tab algn="l" pos="1078236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lupus like sy-hydralazine, procainami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883800"/>
                <a:tab algn="l" pos="10333080"/>
                <a:tab algn="l" pos="1078236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Type IV - contact derm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883800"/>
                <a:tab algn="l" pos="10333080"/>
                <a:tab algn="l" pos="1078236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interstitial pneumonitis- bleomycin, nitrofurantoin, A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883800"/>
                <a:tab algn="l" pos="10333080"/>
                <a:tab algn="l" pos="1078236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hepatocellular damage - NSAIDs, anesthe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883800"/>
                <a:tab algn="l" pos="10333080"/>
                <a:tab algn="l" pos="1078236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encephalomyelitis-virus vaccines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1"/>
          <p:cNvSpPr/>
          <p:nvPr/>
        </p:nvSpPr>
        <p:spPr>
          <a:xfrm>
            <a:off x="457200" y="1062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FACTORS OF SENSITIZATION RELATED TO THE PATI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2"/>
          <p:cNvSpPr/>
          <p:nvPr/>
        </p:nvSpPr>
        <p:spPr>
          <a:xfrm>
            <a:off x="457200" y="2287440"/>
            <a:ext cx="8229600" cy="45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1280" indent="-339840">
              <a:spcBef>
                <a:spcPts val="700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883800"/>
                <a:tab algn="l" pos="10333080"/>
                <a:tab algn="l" pos="1078236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Age (usually 20-40 year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spcBef>
                <a:spcPts val="700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883800"/>
                <a:tab algn="l" pos="10333080"/>
                <a:tab algn="l" pos="1078236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Gender - fema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spcBef>
                <a:spcPts val="700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883800"/>
                <a:tab algn="l" pos="10333080"/>
                <a:tab algn="l" pos="1078236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Atopic constitu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spcBef>
                <a:spcPts val="700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883800"/>
                <a:tab algn="l" pos="10333080"/>
                <a:tab algn="l" pos="1078236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Accompanying diseases (infectious mononucleosis and CLL rash on Ampicillin, sarcoidosis - contact dermatitis, use of immunosuppressive drugs, greater possibility of anaphylactic reactio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"/>
          <p:cNvSpPr/>
          <p:nvPr/>
        </p:nvSpPr>
        <p:spPr>
          <a:xfrm>
            <a:off x="457200" y="1062000"/>
            <a:ext cx="8229600" cy="6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3000"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SENSITIZATION FACTORS RELATED TO THE DRU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Text Box 2"/>
          <p:cNvSpPr/>
          <p:nvPr/>
        </p:nvSpPr>
        <p:spPr>
          <a:xfrm>
            <a:off x="304920" y="2209680"/>
            <a:ext cx="861048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1280" indent="-339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883800"/>
                <a:tab algn="l" pos="10333080"/>
                <a:tab algn="l" pos="1078236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Hapten molecules bind to plasma protei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883800"/>
                <a:tab algn="l" pos="10333080"/>
                <a:tab algn="l" pos="1078236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Antigenic determinants of drugs (minor, major, side chain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883800"/>
                <a:tab algn="l" pos="10333080"/>
                <a:tab algn="l" pos="1078236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Polymerization-standing dissolves on its own temp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883800"/>
                <a:tab algn="l" pos="10333080"/>
                <a:tab algn="l" pos="1078236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Protein impurit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883800"/>
                <a:tab algn="l" pos="10333080"/>
                <a:tab algn="l" pos="1078236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Pharmaceutical supple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1"/>
          <p:cNvSpPr/>
          <p:nvPr/>
        </p:nvSpPr>
        <p:spPr>
          <a:xfrm>
            <a:off x="457200" y="1062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"/>
              </a:rPr>
              <a:t>SENSITIZATION FACTORS RELATED TO THE DRU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2"/>
          <p:cNvSpPr/>
          <p:nvPr/>
        </p:nvSpPr>
        <p:spPr>
          <a:xfrm>
            <a:off x="457200" y="2287440"/>
            <a:ext cx="8229600" cy="45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1280" indent="-339840">
              <a:spcBef>
                <a:spcPts val="700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883800"/>
                <a:tab algn="l" pos="10333080"/>
                <a:tab algn="l" pos="1078236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Drug doses (large, underdosed dos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spcBef>
                <a:spcPts val="700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883800"/>
                <a:tab algn="l" pos="10333080"/>
                <a:tab algn="l" pos="1078236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Duration of drug administration (long-term, repetition of short-term th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spcBef>
                <a:spcPts val="700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883800"/>
                <a:tab algn="l" pos="10333080"/>
                <a:tab algn="l" pos="1078236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Method of administration of the drug (parenterally manifests manifestations more quickly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spcBef>
                <a:spcPts val="700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883800"/>
                <a:tab algn="l" pos="10333080"/>
                <a:tab algn="l" pos="1078236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Cross-sensitization (penicillin-cephalosporin, sulfonamides, hair dye, local anesthetic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spcBef>
                <a:spcPts val="700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1"/>
          <p:cNvSpPr/>
          <p:nvPr/>
        </p:nvSpPr>
        <p:spPr>
          <a:xfrm>
            <a:off x="468360" y="1052640"/>
            <a:ext cx="82296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sr-Latn-CS" sz="3600" spc="-1" strike="noStrike">
                <a:solidFill>
                  <a:srgbClr val="c00000"/>
                </a:solidFill>
                <a:latin typeface="Arial"/>
              </a:rPr>
              <a:t>DIAGNOSTIC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Text Box 2"/>
          <p:cNvSpPr/>
          <p:nvPr/>
        </p:nvSpPr>
        <p:spPr>
          <a:xfrm>
            <a:off x="324000" y="1916280"/>
            <a:ext cx="8362800" cy="41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452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mnesi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452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the drugs us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452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e from drug exposure to allerg. rea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452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rmine the type of allergic reaction based on the clinical pictur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452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452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kin tests (prix, only if RAST -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452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452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se provocation tests (only in case of type I reaction, if the skin test is negative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452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39840"/>
                <a:tab algn="l" pos="797040"/>
                <a:tab algn="l" pos="1254240"/>
                <a:tab algn="l" pos="1711440"/>
                <a:tab algn="l" pos="2168640"/>
                <a:tab algn="l" pos="2625840"/>
                <a:tab algn="l" pos="3083040"/>
                <a:tab algn="l" pos="3540240"/>
                <a:tab algn="l" pos="3997440"/>
                <a:tab algn="l" pos="4454640"/>
                <a:tab algn="l" pos="4911840"/>
                <a:tab algn="l" pos="5369040"/>
                <a:tab algn="l" pos="5826240"/>
                <a:tab algn="l" pos="6283440"/>
                <a:tab algn="l" pos="6740640"/>
                <a:tab algn="l" pos="7197840"/>
                <a:tab algn="l" pos="7655040"/>
                <a:tab algn="l" pos="8112240"/>
                <a:tab algn="l" pos="8569440"/>
                <a:tab algn="l" pos="9026640"/>
                <a:tab algn="l" pos="948384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ndows User</cp:lastModifiedBy>
  <dcterms:modified xsi:type="dcterms:W3CDTF">2023-08-14T09:59:33Z</dcterms:modified>
  <cp:revision>7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